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2906"/>
        <c:axId val="2293216"/>
      </c:barChart>
      <c:catAx>
        <c:axId val="58229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3216"/>
        <c:crosses val="autoZero"/>
        <c:auto val="1"/>
        <c:lblAlgn val="ctr"/>
        <c:lblOffset val="100"/>
        <c:noMultiLvlLbl val="0"/>
      </c:catAx>
      <c:valAx>
        <c:axId val="22932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29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FAA6-DFC6-4BCC-975E-7D0C9DBB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D58-8420-4568-B6A2-2E801C85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2E3-6F99-4B09-80DF-54AA582B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1AB-954C-43DC-A05A-3E711648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EF9-44AF-4059-83A5-1A71D28F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6480-FDF9-4712-B9B1-47A0D4D5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E8CE-B8D5-48F1-BB47-0C428DC9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088-360C-4DE1-A261-09749510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0F5-4FF4-41A1-912E-AB4CC555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A983-7FEF-41A1-A73B-4CF9A2D9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6F2-A403-4DBE-88DF-A8FE25A8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4EC-C8A9-4892-9D7E-03520730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9D296-A31C-42BE-83AD-FB64190B91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