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50892"/>
        <c:axId val="59692888"/>
      </c:barChart>
      <c:catAx>
        <c:axId val="94550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92888"/>
        <c:crosses val="autoZero"/>
        <c:auto val="1"/>
        <c:lblAlgn val="ctr"/>
        <c:lblOffset val="100"/>
        <c:noMultiLvlLbl val="0"/>
      </c:catAx>
      <c:valAx>
        <c:axId val="59692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0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BFB-2857-4423-8099-52BF6369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7E8-045D-45CB-A623-55BF5F1D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524-305C-4352-8A3A-6310FF9F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C27-3074-4E6B-B5CB-72564FA0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F3A-57F0-4572-A1E4-AFB4EDF6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E8C-5450-4F79-8B87-8AA5D5FC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3F0-477C-4566-91FA-B9065678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95F-A762-4B82-849E-4AF32C55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7AD-D238-4440-9866-5A1EA456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743-8B3A-4C0A-B8D1-967CE532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CFF-9D91-432D-A641-EB2905F7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632-3E58-44E4-B569-A265AAD4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69918-9E54-4172-8BD5-4510768B81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