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80366"/>
        <c:axId val="93172716"/>
      </c:barChart>
      <c:catAx>
        <c:axId val="39280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72716"/>
        <c:crosses val="autoZero"/>
        <c:auto val="1"/>
        <c:lblAlgn val="ctr"/>
        <c:lblOffset val="100"/>
        <c:noMultiLvlLbl val="0"/>
      </c:catAx>
      <c:valAx>
        <c:axId val="93172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80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B67-560C-4CBC-BD7F-C520FCE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151-B5AE-4A76-90E9-8FA652A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CA1-3F5C-4FC0-87A7-5755134C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3C4-65E2-4044-9CB7-B0BA8926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EF4-1C93-4B5E-82C1-827E4BA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37E-F1A0-4F4E-8D28-F1DD7BA4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BEF-BD5B-4680-BBBE-4D61584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522-12A9-42ED-BEBA-EDD5D0FE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6D0-F5C6-4DCA-9EE0-8593CD6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944-14A9-4FC0-8365-E7F275A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93C-18F3-4CDC-9C49-3A14429C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9B9-64EF-4A43-965A-6233F1F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1C5A-E7EE-4344-8FD0-89BD64751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