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54910"/>
        <c:axId val="35841156"/>
      </c:barChart>
      <c:catAx>
        <c:axId val="77254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41156"/>
        <c:crosses val="autoZero"/>
        <c:auto val="1"/>
        <c:lblAlgn val="ctr"/>
        <c:lblOffset val="100"/>
        <c:noMultiLvlLbl val="0"/>
      </c:catAx>
      <c:valAx>
        <c:axId val="35841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54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BFE-8C92-4BC2-AC20-22450234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7B8-D1B4-4547-A291-127D3C24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2B8-13B3-48C7-8848-12AE0C27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1E2-2AA9-4B2D-94DF-40DBA478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01C-B37B-4F6A-9DCA-7CCEB48E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91B-2AE9-47DB-A855-9C698BB8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62E-777D-44F8-A286-7B070128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EA6-D57A-48A4-B59B-18B0BCFC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05E-56BF-41A2-ADE5-C4ACC213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E34-C6AE-4A47-8A61-4D3907B1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A0A-49CD-474E-9CDB-79E219D2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EE7-1EEB-4A6F-BA26-7BBDF8FC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F3145-9C37-4A79-A9B4-7AB7272360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