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61096"/>
        <c:axId val="33007694"/>
      </c:barChart>
      <c:catAx>
        <c:axId val="45361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07694"/>
        <c:crosses val="autoZero"/>
        <c:auto val="1"/>
        <c:lblAlgn val="ctr"/>
        <c:lblOffset val="100"/>
        <c:noMultiLvlLbl val="0"/>
      </c:catAx>
      <c:valAx>
        <c:axId val="33007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61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354-BC82-41AB-B967-4D9D8A8E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3CA-AA72-414D-BF2F-E8B88625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811-7D18-4E28-AD27-12E75552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ACE-17AE-449D-8A2B-5058C9F5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3F8-296C-4168-A633-4BD9A0F5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840-E42E-4BE4-91E5-D0A38126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BB9-8A95-4234-A83E-3934D300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553-0283-4D7A-9E81-67BCFC41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651-F75B-40D3-9BC6-E067646C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4FA-909E-4161-9DAD-9C09B95B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9D3-C7AF-485A-BEF9-6978C19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976-9FB8-442C-9614-D5D7EA53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B774D-C526-4E28-B02F-D43A394670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