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220291"/>
        <c:axId val="84965313"/>
      </c:barChart>
      <c:catAx>
        <c:axId val="88220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65313"/>
        <c:crosses val="autoZero"/>
        <c:auto val="1"/>
        <c:lblAlgn val="ctr"/>
        <c:lblOffset val="100"/>
        <c:noMultiLvlLbl val="0"/>
      </c:catAx>
      <c:valAx>
        <c:axId val="84965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20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662-BBF4-4121-9639-3AE61AB6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FFC-6DF5-45C9-A2B2-1E933310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C442-829E-4A4B-8A9A-14172284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BF4-7A74-43FC-8F73-98251C33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35D6-3644-4D74-AB9E-8F89455D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8F1-9BE5-4200-ACBB-EAA37035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DCB7-53FE-4D87-A88C-126BB824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CD8-E546-4076-9114-D26B9A3E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9CD-F5F7-4B58-9DAF-ABE6EF74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0826-3DB4-40CB-9EB3-C53C9EB3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8BB-A0F5-4577-8FD5-13FE1FC8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41A-06CB-4FFB-8E3D-FCAE32AA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01DF9-926B-486E-86D4-FBD62348E4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