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616119"/>
        <c:axId val="75322551"/>
      </c:barChart>
      <c:catAx>
        <c:axId val="916161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322551"/>
        <c:crosses val="autoZero"/>
        <c:auto val="1"/>
        <c:lblAlgn val="ctr"/>
        <c:lblOffset val="100"/>
        <c:noMultiLvlLbl val="0"/>
      </c:catAx>
      <c:valAx>
        <c:axId val="753225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6161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A891-FA25-4DEF-88F6-052B4C892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9428-4A0E-43B2-9F71-09C82BD3D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28BC-0844-4222-A466-D6C768954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068F-13F6-4F6B-B217-14C52BEA0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5DD0-CBC0-4638-BD18-55024D03A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A0F2-22A7-4FD6-83EA-4459336D6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A625-9886-4B09-82FD-65A5D1B0A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06CB-2AFE-4625-AB7C-21993D9F8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03C2-04D6-4BE8-B65D-99D3ACD4F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ED41-54E8-4410-BA69-AD1B6C3E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74BC-42ED-4756-900E-5897D3CF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24B3-98E2-4679-B53A-1D1E76E0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BD47C4-C059-493B-96A7-AB71DD23DC3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