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90155"/>
        <c:axId val="1635705"/>
      </c:barChart>
      <c:catAx>
        <c:axId val="14590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5705"/>
        <c:crosses val="autoZero"/>
        <c:auto val="1"/>
        <c:lblAlgn val="ctr"/>
        <c:lblOffset val="100"/>
        <c:noMultiLvlLbl val="0"/>
      </c:catAx>
      <c:valAx>
        <c:axId val="1635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90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A5B-EA67-471C-9AAD-33730576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3E5-97D7-4130-9823-0FD5CACF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F2A-5714-48C3-8104-F8E4B4ED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65B-3943-4B0A-B140-37851E9F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2BC-256C-464C-9FE0-727BC2D9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DF7-B2FA-4E8D-BB7C-E5CF32A4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F02-095A-4BC7-AA62-FA5A7CA5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EE2-695D-4A6A-992C-86492662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005-71B8-4699-BCBE-C97ACCAE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1C8-4A1E-4706-BD21-686458D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B45-0B57-4A94-AD82-E80A9A5F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C48-493C-481E-965C-0406F956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F0C49-F198-4B15-BCEF-B0A1572407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