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253319"/>
        <c:axId val="48115336"/>
      </c:barChart>
      <c:catAx>
        <c:axId val="642533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15336"/>
        <c:crosses val="autoZero"/>
        <c:auto val="1"/>
        <c:lblAlgn val="ctr"/>
        <c:lblOffset val="100"/>
        <c:noMultiLvlLbl val="0"/>
      </c:catAx>
      <c:valAx>
        <c:axId val="481153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533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3DA8-1D8C-4213-8493-9B1993C6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1F28-9FBB-43C2-88EF-7300B81B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9796-BBFB-4954-A8A0-13555AE0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E6CD-B0BA-46CD-80DD-78BE12C3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E229-10AE-4604-AEDD-1365D164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66DD-E28B-4515-8676-BA69A95D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8989-715D-41AA-9605-E6B2BADF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A0C5-9A3F-40EC-9B2F-175D6458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BF78-561A-42C6-AE8E-9DD2A65F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82D1-B974-4C4B-92E8-8E7C5457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D3D6-A134-4F18-914B-E7DBA5B5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0CFC-6CFD-4FD7-B8A0-48009449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754BD-9569-423C-9F1A-6DEEEC7873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