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85898"/>
        <c:axId val="29947070"/>
      </c:barChart>
      <c:catAx>
        <c:axId val="13485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47070"/>
        <c:crosses val="autoZero"/>
        <c:auto val="1"/>
        <c:lblAlgn val="ctr"/>
        <c:lblOffset val="100"/>
        <c:noMultiLvlLbl val="0"/>
      </c:catAx>
      <c:valAx>
        <c:axId val="29947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5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CB4-FF20-4BB0-9736-D67B1539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734-9B25-4163-8566-684DB32A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AAA-E0F7-454E-9F91-1CFE23A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83D-53F0-4025-986C-69D5B8A8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56B-C6BA-4D6C-9644-89F78D81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2A8-9175-4DBC-9B3E-2748C035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2DF-B37F-4A1B-9EAE-2811ED23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82F-5FBF-4E45-8A4C-DB8E47B9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BC6-CD20-4982-95EA-F2A963A9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CC2-A51A-4109-BEEC-1B7F3DE1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352-C8E7-4507-932F-A6B19669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6FF-82C7-4CB8-A8C1-3C31EF96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D2625-53B0-402A-BDAD-C5AC94D29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