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41053"/>
        <c:axId val="95117441"/>
      </c:barChart>
      <c:catAx>
        <c:axId val="22341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17441"/>
        <c:crosses val="autoZero"/>
        <c:auto val="1"/>
        <c:lblAlgn val="ctr"/>
        <c:lblOffset val="100"/>
        <c:noMultiLvlLbl val="0"/>
      </c:catAx>
      <c:valAx>
        <c:axId val="95117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41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265-12FA-4C56-8DB2-9AAA698C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930-5612-4E0E-A8DC-92F38C5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7B4-BE41-463F-B39F-24DA602D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BF3-C6AE-447F-9548-39CD6B16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A14-BFFE-4B1C-B70B-E01FE11E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E02-E944-4261-AAD5-434E4D78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B0A-3167-4FDD-9BB4-8DEB2B7A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D1C-CE72-4F2F-97FA-A02D6245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E6C-68C2-453E-BA8B-3DDF9D7E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A91-4167-435A-B95F-54C41306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995-815A-4628-9DE4-6E6984C0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D86-6908-490B-97FE-46FBE03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C4972-A993-43FE-8B70-2466AFAC02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