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52263"/>
        <c:axId val="84126634"/>
      </c:barChart>
      <c:catAx>
        <c:axId val="67752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26634"/>
        <c:crosses val="autoZero"/>
        <c:auto val="1"/>
        <c:lblAlgn val="ctr"/>
        <c:lblOffset val="100"/>
        <c:noMultiLvlLbl val="0"/>
      </c:catAx>
      <c:valAx>
        <c:axId val="84126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52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291-8736-4195-8CCB-31E7B814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CB0-AD80-4A7E-A055-AF782148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EF8-D851-4F57-925B-03FE14AB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C6E-BAF6-4F3E-8538-83CA4C41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B9E-362C-43B5-9D4B-6A3E442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7C3-87E5-4E19-A8AB-1D898590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72A-FAA7-4B82-A18A-47366D2C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B68-6539-4F4F-978B-81B36287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FC7-58A4-4E51-AD80-1A3F4A9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357-BA2C-4468-AF78-93EC691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877-F9D8-48E3-9AF8-F6CB128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F41-9643-4544-967E-8DCF4B1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6D5C5-E469-47BA-B3CD-5218D09AAC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