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4267"/>
        <c:axId val="64468129"/>
      </c:barChart>
      <c:catAx>
        <c:axId val="2134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68129"/>
        <c:crosses val="autoZero"/>
        <c:auto val="1"/>
        <c:lblAlgn val="ctr"/>
        <c:lblOffset val="100"/>
        <c:noMultiLvlLbl val="0"/>
      </c:catAx>
      <c:valAx>
        <c:axId val="64468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E14-2C98-4C3F-8C62-E3E67630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04A-BEE4-40F2-8377-77DAF32D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349-0A75-4585-8A2F-09197E01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94D-EEFB-4F1A-810F-FA2274D9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1D3-7250-46A9-8912-DE45024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457-1490-4256-82B3-09FDEB5C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9C0-D860-4D96-9184-A85314E2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744-D660-4321-A315-6EDBBB9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6A6-A194-4C68-B521-4F4D08F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1C7-3313-4363-A033-435284B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B96-2163-4B59-B870-F73B79A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179-7582-4A17-9E1B-0EAD93D9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70E04-DAF8-43B5-865A-4EF77C5ED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