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342999"/>
        <c:axId val="26869371"/>
      </c:barChart>
      <c:catAx>
        <c:axId val="153429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869371"/>
        <c:crosses val="autoZero"/>
        <c:auto val="1"/>
        <c:lblAlgn val="ctr"/>
        <c:lblOffset val="100"/>
        <c:noMultiLvlLbl val="0"/>
      </c:catAx>
      <c:valAx>
        <c:axId val="268693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3429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D16C-01BA-4C19-8DA6-ADDE2BBE7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2046-DF73-4A64-86A7-CDA2F4A1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B86D-4C60-4EC4-B5B5-D8519E15A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71E6-37E7-47F2-B3E2-D3453559B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687C-95DE-4AA8-BD33-B3168C62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7131-B190-4421-9902-2DD406F4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E90E-0AB0-497C-8160-E3048216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A34F-BB74-4D60-8792-6CE8B89F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46B2-DED7-4278-B579-DB1F48B1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450F-A480-44F7-B690-59B0D2FC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0864-EC44-4344-99C8-07709067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D4F1-01B0-4E68-AD63-BC534C0C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E26B40-C0BC-490F-A82C-7BC303ABB5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