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03101"/>
        <c:axId val="45987477"/>
      </c:barChart>
      <c:catAx>
        <c:axId val="14303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87477"/>
        <c:crosses val="autoZero"/>
        <c:auto val="1"/>
        <c:lblAlgn val="ctr"/>
        <c:lblOffset val="100"/>
        <c:noMultiLvlLbl val="0"/>
      </c:catAx>
      <c:valAx>
        <c:axId val="45987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03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827-4940-4E72-AE02-FA7B5C37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56C-871D-445D-B5E5-BFDCCAE7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7D2-9526-4588-AE5F-66991F0F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73C-E54F-4D27-9DB8-A87EF22D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81D-D2A3-49BF-8CEE-B0FC6913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706-00C0-49E9-94F4-FB43FF8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7AC-A57D-4F4D-B4BC-85EE7746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0BA-CC96-476E-9D36-3E6EBA4E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9A7-3BEE-412B-AC36-BB077991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369-1999-427C-9294-18C7D8A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0D0-46C9-433F-B4FA-251E45C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ED7-54B1-45EB-8690-3885E93A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70E4A-CCB5-4D4B-B006-533F734005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