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77459"/>
        <c:axId val="68367329"/>
      </c:barChart>
      <c:catAx>
        <c:axId val="40077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67329"/>
        <c:crosses val="autoZero"/>
        <c:auto val="1"/>
        <c:lblAlgn val="ctr"/>
        <c:lblOffset val="100"/>
        <c:noMultiLvlLbl val="0"/>
      </c:catAx>
      <c:valAx>
        <c:axId val="68367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77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C95-5C00-4C10-8C10-C5CEC123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3C4-00CE-4252-82DC-F6D5DCFF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AFE-B834-4A25-85C7-D548E179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FD1-2627-44AB-817B-D84555C4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38D-ACF5-4C9B-BEDE-0A08EFC1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E38-7598-4D12-8619-FE8A4A7C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E4C-AAC4-43F8-B7D9-BF900218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E30-3F68-4DAB-A545-FC61D61B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182-8E05-4191-B46C-A5A3CD16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B37-FFED-4F64-B8D1-7605CBA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E3F-D829-4265-AEC5-B9652F3B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7C6-E945-4C53-9F69-DB9F817C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533D4-5280-4A8F-97AF-64932FF477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