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00185"/>
        <c:axId val="51423903"/>
      </c:barChart>
      <c:catAx>
        <c:axId val="57900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23903"/>
        <c:crosses val="autoZero"/>
        <c:auto val="1"/>
        <c:lblAlgn val="ctr"/>
        <c:lblOffset val="100"/>
        <c:noMultiLvlLbl val="0"/>
      </c:catAx>
      <c:valAx>
        <c:axId val="51423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00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5B2-DE39-4D5E-B3E5-EFC5BC1B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43C-2A63-4D91-8465-FCC00871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462-F036-408C-A27D-4AF377B2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373-8694-4551-AF98-88897B7C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C13-4218-4D81-8B04-D7EC2E7B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50E-16AA-49D6-8DC8-ADB4E8C0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D15-696D-4F54-9E0F-20AB46B5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4EE-CC7C-47B5-AB78-174C2C46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E77-F8B2-4595-9E9E-B25C0934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D6F-43CC-483A-9141-A8E797F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460-7585-4EED-8EE8-EF41EF0F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3CA-BC67-4379-B639-C34DF570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603DC-5EE8-400C-A794-950B4D5094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