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72174"/>
        <c:axId val="84603174"/>
      </c:barChart>
      <c:catAx>
        <c:axId val="86572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03174"/>
        <c:crosses val="autoZero"/>
        <c:auto val="1"/>
        <c:lblAlgn val="ctr"/>
        <c:lblOffset val="100"/>
        <c:noMultiLvlLbl val="0"/>
      </c:catAx>
      <c:valAx>
        <c:axId val="84603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72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392-F0F0-4631-BB3C-806C152E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375-8491-4407-AFA6-70E2597E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5D7-C184-43AC-863C-A557E72D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4F0A-10FC-40D4-91AE-78935BD9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7A7-7FED-41B6-8869-2AEF21AE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61D-6925-48BD-987A-93C246D7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0EA-5525-4BF9-8C99-E4E64E23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B18-B1EA-4F8E-BB49-154147F5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BF5-EF90-4DA4-9388-C2146086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BFA-D025-44D9-87FE-44927D51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3E0-F96F-4A16-AB17-165C4FE8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870-127A-47FA-948B-4630E49B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34B48-348F-4407-A84F-551816764F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