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616805"/>
        <c:axId val="34269017"/>
      </c:barChart>
      <c:catAx>
        <c:axId val="706168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269017"/>
        <c:crosses val="autoZero"/>
        <c:auto val="1"/>
        <c:lblAlgn val="ctr"/>
        <c:lblOffset val="100"/>
        <c:noMultiLvlLbl val="0"/>
      </c:catAx>
      <c:valAx>
        <c:axId val="342690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168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AFAA-5DE8-44A2-9CB6-F899A6A2F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1D53-4744-449B-8896-D4087E94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B9D0-5634-4BB6-949E-64F1B8B03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0002-B0EF-4BEB-807F-C478B88E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883D-D66A-4131-9D98-86BE1A1A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864F-385D-4108-9112-6979555F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02A1-EBCB-4348-8003-CD4F9FE0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9C3C-4A7C-4D05-8678-00AF274E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78B7-A2DF-4D20-B328-F0158D2C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E4F1-0434-431F-B65C-E34FAC7B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7D62-0BA6-4749-8BCF-FB4D9057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662D-4F3A-4A84-A4A2-EA81B112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E4D1A-D00D-46BC-B348-A9F3049198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