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838164"/>
        <c:axId val="48632883"/>
      </c:barChart>
      <c:catAx>
        <c:axId val="558381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632883"/>
        <c:crosses val="autoZero"/>
        <c:auto val="1"/>
        <c:lblAlgn val="ctr"/>
        <c:lblOffset val="100"/>
        <c:noMultiLvlLbl val="0"/>
      </c:catAx>
      <c:valAx>
        <c:axId val="486328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381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52C1-4186-4FE6-B24E-1F5A09AB9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D551-6DA3-4DB6-957E-551CD22A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20E8-70A9-4047-96CA-8DD1DC66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C0F1-71EB-4292-8124-B4A5CC64C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0AA9-DE30-45C3-9642-9F7C0A9A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CD1C-72C5-46D4-A625-F44E1D46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08B6-B2D1-48EB-9F08-548F3193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386C-9BAA-4932-9F74-56C4461D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AD53-658C-42B4-80C8-BF6255B3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2B4D-3743-4A60-A23F-D87384E0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DEA4-96C6-491B-BE2D-4D061A5F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37AC-5261-4EAD-ADF4-700BA7B6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2A8CC-3140-4C8B-A797-8C57A5B284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