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892123"/>
        <c:axId val="26237069"/>
      </c:barChart>
      <c:catAx>
        <c:axId val="208921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37069"/>
        <c:crosses val="autoZero"/>
        <c:auto val="1"/>
        <c:lblAlgn val="ctr"/>
        <c:lblOffset val="100"/>
        <c:noMultiLvlLbl val="0"/>
      </c:catAx>
      <c:valAx>
        <c:axId val="262370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921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5146-16E4-410F-AE53-F6E61E16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5990-36B7-4E3E-A3AC-395CCE62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16A9-5061-421D-AC6C-3071C2A6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DB27-159B-4310-B34B-63A15EC0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409B-2285-48EA-A3C4-C20419DF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7319-C198-4AF8-9A62-BEFE5F5E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2319-82D6-4EB5-9590-EAABA84F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EFF2-E8D2-4840-8781-903CDE43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47F0-C6F4-4992-B112-6BBB1D7A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1E23-ACED-4EF4-8BE4-6C7778FC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CEB6-D607-4CAE-8849-351F3304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7A44-994B-48A6-991C-B98D2C8B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7DAB5-1D5C-4854-A678-5429FF1564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