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7377"/>
        <c:axId val="21105838"/>
      </c:barChart>
      <c:catAx>
        <c:axId val="47217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5838"/>
        <c:crosses val="autoZero"/>
        <c:auto val="1"/>
        <c:lblAlgn val="ctr"/>
        <c:lblOffset val="100"/>
        <c:noMultiLvlLbl val="0"/>
      </c:catAx>
      <c:valAx>
        <c:axId val="21105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7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BCF-2682-43B7-BC32-3E9B8A16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980-19E2-4621-8129-012A9895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0E5-2D00-4F43-9406-1CCB3C3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CED-45ED-4091-AD10-78122F94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E37-6A06-42E7-8BE6-72B729F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622-50A2-489D-8920-669405E3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9C3-281E-428B-8702-A68AF3F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DC4-1AF8-400F-B2D0-09D5A2C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142-D1EE-4B5E-AAD0-10E3B9E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EA6-6A55-4AD5-8C16-E8B679B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158-E89C-44C8-B1C5-B23F547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261-4C4C-4FD9-97B3-17212A2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34BB8-9096-4DB3-9472-710FC58486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