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53039"/>
        <c:axId val="42565702"/>
      </c:barChart>
      <c:catAx>
        <c:axId val="96353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65702"/>
        <c:crosses val="autoZero"/>
        <c:auto val="1"/>
        <c:lblAlgn val="ctr"/>
        <c:lblOffset val="100"/>
        <c:noMultiLvlLbl val="0"/>
      </c:catAx>
      <c:valAx>
        <c:axId val="42565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53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2B4-4B4F-48F4-955B-8A19BC9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4D0-07F7-4FDC-82DB-3A237DDC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C7A-7832-4A48-AA2D-81C141B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1C0-93F3-440E-9193-CE815B31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D4F-111F-42E0-A515-A0057B6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DEB-4622-41BE-8673-BEE358D6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50C-7AC1-40B0-A094-4708747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652-2E71-4C6B-BBE4-1A5FC9E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AF7-F48A-493B-8984-8F37D5C6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EF8-E3C5-4605-B459-B309621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64C-B86D-4830-8A9A-E42A30DE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90A-4E80-4575-A627-23D1D27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F50C-039F-4B97-BDFD-B219057F5E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