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16422"/>
        <c:axId val="16930997"/>
      </c:barChart>
      <c:catAx>
        <c:axId val="45816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0997"/>
        <c:crosses val="autoZero"/>
        <c:auto val="1"/>
        <c:lblAlgn val="ctr"/>
        <c:lblOffset val="100"/>
        <c:noMultiLvlLbl val="0"/>
      </c:catAx>
      <c:valAx>
        <c:axId val="16930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16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88C-FC26-49B1-9AD9-0924F4FC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0A2-DD03-4E80-8C97-B99FAE48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9E4-355E-4BA8-87AC-5743162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751-C53A-40AB-A5A2-C116427D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C60-E130-4F14-97E8-A4DD56EA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D27-DDEE-4B10-AA7E-2E28C7E0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BC4-BFF5-4FA5-B669-09EE63D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4C4-50D5-4EFD-84ED-E63894A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B76-A347-4B32-A41C-477B9B2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176-D9BD-49FD-8F51-FE235A9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739-2651-4A1F-AD6F-028C1C1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EEA-434A-4683-97D2-DD1D591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74025-AC19-4A90-A1DB-1748A0FFA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