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00468"/>
        <c:axId val="43055702"/>
      </c:barChart>
      <c:catAx>
        <c:axId val="61800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55702"/>
        <c:crosses val="autoZero"/>
        <c:auto val="1"/>
        <c:lblAlgn val="ctr"/>
        <c:lblOffset val="100"/>
        <c:noMultiLvlLbl val="0"/>
      </c:catAx>
      <c:valAx>
        <c:axId val="43055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00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66D-1E58-4B18-8707-7CB33D29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74E-2A4E-46CE-8C0C-284BB509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EB4-22D9-43EF-A957-DCC99B57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3CA-005B-4BA8-A65F-E5D5D9DB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A5F-2C0B-42D2-B8B1-9379AFF9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53B-24D2-4F80-82AA-2631539F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ADC-F7F3-4EBE-BB24-FCE08AAD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7BD-005F-43D5-8E61-C6F13F76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876-71B5-4266-9473-5E7A2BB5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7F1-4666-4251-B58F-7A681C5C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3BA-A871-4FB0-B53C-7E94E420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ADD-6463-4E4B-9B3E-0E5CD67F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D3720-474F-4FC7-A533-895ED6E404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