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99087"/>
        <c:axId val="22896869"/>
      </c:barChart>
      <c:catAx>
        <c:axId val="21399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6869"/>
        <c:crosses val="autoZero"/>
        <c:auto val="1"/>
        <c:lblAlgn val="ctr"/>
        <c:lblOffset val="100"/>
        <c:noMultiLvlLbl val="0"/>
      </c:catAx>
      <c:valAx>
        <c:axId val="22896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9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21A-7E4F-4387-A39B-67F83A6F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FDC-2B47-4CE9-B699-B292672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893-8C21-46E4-9258-4D813828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D34-24BE-4719-8103-EF77891C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02B-4EB8-476C-80B4-E2701025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655-63F0-4ABB-9700-9C46775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310-ECE4-40BA-9FFB-23D38CE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FF3-201D-4A8D-8A09-887AFC5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37C-FBE7-40B3-BC0F-83E580C7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281-1457-4ED1-A523-4E0AEAB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AFB-A96E-4BB6-91E8-3074F5B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130-2BBE-4049-8069-219FBA1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C93AF-9965-4968-9471-228281A8CB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