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63649"/>
        <c:axId val="67470957"/>
      </c:barChart>
      <c:catAx>
        <c:axId val="37463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70957"/>
        <c:crosses val="autoZero"/>
        <c:auto val="1"/>
        <c:lblAlgn val="ctr"/>
        <c:lblOffset val="100"/>
        <c:noMultiLvlLbl val="0"/>
      </c:catAx>
      <c:valAx>
        <c:axId val="6747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63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33E-2394-4D43-BB91-CF42C040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D3F-5321-4AA4-AA8A-2EB1DD22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E1F-8DA4-48FD-B303-0C9E7812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E60-E1A3-499F-99EE-8A7E32D7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A41-F1EE-4863-8AFB-5103A59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989-2038-4154-BC04-B45A92F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D48-14C2-4695-80AB-23A9797E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8E2-FAB6-40D5-A318-21D1F84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933-42A5-4DD0-B8B8-2E964D9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E02-3FCE-4688-856B-3270EEF3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FE9-B88D-48C8-836D-EAC34DA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244-ADCC-488B-903B-223EF626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8C869-9903-467C-B8B9-5ACD76343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