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74667"/>
        <c:axId val="39344646"/>
      </c:barChart>
      <c:catAx>
        <c:axId val="99574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44646"/>
        <c:crosses val="autoZero"/>
        <c:auto val="1"/>
        <c:lblAlgn val="ctr"/>
        <c:lblOffset val="100"/>
        <c:noMultiLvlLbl val="0"/>
      </c:catAx>
      <c:valAx>
        <c:axId val="39344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74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63D-0181-49A9-B872-B4F782D5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06C-D1FB-44A4-9FF7-026F8BB1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4EE-0ACA-4CDB-BD03-3367A1FD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6C9-3237-443A-BE51-EA10F36B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4D9-2ED2-40A7-931A-5C8BF703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47E-8E9B-409A-B7B9-AD758B39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979-6C65-4291-95EB-4F0A9F14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354-E8A4-4428-BF58-E5EDE4DF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0DE-D582-4B9C-8FB2-344F1C28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039-09B9-4E39-BC4A-DDA6D663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7F9-3E60-48EF-B117-B7AE90B7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5D2-A743-4D9E-97D5-B5754A39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BAE88-C38E-499B-9FAE-D6DA832D89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