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304835"/>
        <c:axId val="49338806"/>
      </c:barChart>
      <c:catAx>
        <c:axId val="393048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38806"/>
        <c:crosses val="autoZero"/>
        <c:auto val="1"/>
        <c:lblAlgn val="ctr"/>
        <c:lblOffset val="100"/>
        <c:noMultiLvlLbl val="0"/>
      </c:catAx>
      <c:valAx>
        <c:axId val="493388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048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66ED-52C5-4DA8-A337-0086193F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47F6-BE8D-44C6-AD65-0734F826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933D-3A0A-4CDE-ADD4-FFFD7892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BFF0-0F19-49D2-829D-89CA93A7E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6EAA-1B4E-4C79-8B9E-AFCFE592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BFA5-6A8E-49E1-AC65-DE725C21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7460-7792-4F04-9A80-820B3DCC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64B4-4B5C-4F5F-9ED2-81812697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71A4-8CD6-4C43-9C9F-BC2507D2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7E07-A053-4DEF-879F-153EDDA0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56B7-E0E2-475E-AE58-1B20820F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BC26-E3D6-422B-BE47-92730124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76038-8C23-4C3E-8E72-FBFB9C0F8B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