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34900"/>
        <c:axId val="51192979"/>
      </c:barChart>
      <c:catAx>
        <c:axId val="59534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92979"/>
        <c:crosses val="autoZero"/>
        <c:auto val="1"/>
        <c:lblAlgn val="ctr"/>
        <c:lblOffset val="100"/>
        <c:noMultiLvlLbl val="0"/>
      </c:catAx>
      <c:valAx>
        <c:axId val="51192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34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FB8-2361-47FD-9FB2-9772C572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FA4-B97B-4E88-9DE4-C8CB82CC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559-5E7A-4244-A6F3-7C8739A8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596-219C-45FC-9D49-65637863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C20-B1C7-4A7E-80A8-14B0BC61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DCE-BB75-4FA6-B3CB-7C020CDF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CE4-8EB1-4E0C-8344-D1D2E83D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48D-DD76-4ECF-88C6-852F28B0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71B-27E2-42F0-A0C4-6E049509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7B7-54AB-4B72-9F9D-51493D6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D28-4E7C-40FA-8FE6-FCC6E62C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023-F578-4730-82AC-3C3F4454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E3D2B-C2EE-446C-BEF0-49F198B6B6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