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53065"/>
        <c:axId val="25317187"/>
      </c:barChart>
      <c:catAx>
        <c:axId val="20153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17187"/>
        <c:crosses val="autoZero"/>
        <c:auto val="1"/>
        <c:lblAlgn val="ctr"/>
        <c:lblOffset val="100"/>
        <c:noMultiLvlLbl val="0"/>
      </c:catAx>
      <c:valAx>
        <c:axId val="25317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3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CED-64A6-4549-93F6-4AC3CF6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BCE-9ED6-4ABC-A8F6-2CCADF53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D00-81F1-4402-BCF5-FBAFF5CA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B64-1BD0-40A2-B838-5E985BC6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C4C-5FF2-4F02-B684-23175FD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1D7-A2FE-428A-B1F6-4A8990DC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1C2-F996-4140-8FBA-A0E4DC7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D58-A535-4521-BA30-92FD36BB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50B-EBFB-408F-8E13-CBD5CD57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9D7-E555-4DB4-BFD6-D2CF7181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621-10D9-45E5-9874-45A63D3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5BA-3473-436F-9F18-8CE9B50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9DCA7-9147-49A4-B2E7-4665D01E83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