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58022"/>
        <c:axId val="82890966"/>
      </c:barChart>
      <c:catAx>
        <c:axId val="96058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90966"/>
        <c:crosses val="autoZero"/>
        <c:auto val="1"/>
        <c:lblAlgn val="ctr"/>
        <c:lblOffset val="100"/>
        <c:noMultiLvlLbl val="0"/>
      </c:catAx>
      <c:valAx>
        <c:axId val="82890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58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4D0-2FF2-4188-863C-2F2AF529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0F2-F4B0-49C0-85E3-95EB3E2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ACE-2A88-49B3-9930-0A0AA581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1D1-27C9-470E-97DC-86717525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428-17C0-48C1-8475-F66ED38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817-329F-4C0C-8324-174AE935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B19-40E8-48B5-8920-3D5F341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891-0762-455D-B313-16CC71DF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6D5-828E-43DE-83DE-E996F7C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5EC-5203-46DA-8069-5EABACD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284-33A4-4BAD-B8FB-8B0535B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8AA-609C-4024-B743-F90F0E0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521C7-68D5-4161-81FA-F07B4111F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