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85741"/>
        <c:axId val="9445240"/>
      </c:barChart>
      <c:catAx>
        <c:axId val="71985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5240"/>
        <c:crosses val="autoZero"/>
        <c:auto val="1"/>
        <c:lblAlgn val="ctr"/>
        <c:lblOffset val="100"/>
        <c:noMultiLvlLbl val="0"/>
      </c:catAx>
      <c:valAx>
        <c:axId val="9445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85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900-87F0-4D23-BD1A-7F320559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479-EEFA-4FA8-85CE-F0D6F801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DB6-6FB2-40BB-82D1-78C59979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A81-F9D8-4EF0-B4C1-AE7F93F0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03B-65A8-4D34-BE35-9AD404A6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D8B-C4B3-468D-A571-564D58EB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CD0-CDAA-48E4-847B-39236862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EBC-3200-44F5-83DF-A7C0C57E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D1E-0B05-4670-B832-5F383BD3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A13-2721-433D-BBCA-79E78CC4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26E-E810-48DE-8205-DCE63600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1A3-67BC-4DE2-87DE-F8E6F403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85649-5E76-428B-923A-FA8503AE2B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