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23321"/>
        <c:axId val="26395043"/>
      </c:barChart>
      <c:catAx>
        <c:axId val="20623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95043"/>
        <c:crosses val="autoZero"/>
        <c:auto val="1"/>
        <c:lblAlgn val="ctr"/>
        <c:lblOffset val="100"/>
        <c:noMultiLvlLbl val="0"/>
      </c:catAx>
      <c:valAx>
        <c:axId val="263950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23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DD18-C901-46FE-8DA6-F1414846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E1FD-71D2-4983-AF44-FB13EB1D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076-7F4B-489D-B6CD-9FFBE8B7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EB2-1EBD-4CBA-9FF2-9F3D71AD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DF5-3EAF-4F43-988C-3F2DB657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21E-893A-41CC-9C53-EE062DFA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2710-AA40-4912-9CCE-899CB115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52CF-0B53-4006-87B1-C9AF0AE1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60A-79F7-4BC1-8F1A-9B4DA130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4BE-9A52-4326-9B7A-30ED9757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038C-9A60-4BC8-8F6B-7592A034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0CF-5218-452B-BC60-6838373B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FCB8A-FDDF-4724-B35C-5455C729D7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