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15240"/>
        <c:axId val="63153284"/>
      </c:barChart>
      <c:catAx>
        <c:axId val="87915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3284"/>
        <c:crosses val="autoZero"/>
        <c:auto val="1"/>
        <c:lblAlgn val="ctr"/>
        <c:lblOffset val="100"/>
        <c:noMultiLvlLbl val="0"/>
      </c:catAx>
      <c:valAx>
        <c:axId val="63153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15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3AF-B0FC-4231-9DEC-036E1899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452-F2BD-47C4-88FB-734C0E16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C05-AB76-4DAE-B302-C43E711C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969-EB4C-464E-A0E9-7840BB1D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E64-E2B7-44CA-B21B-251A1372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9C5-FBCC-420A-8D8C-391E2042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575-444F-4520-96B0-856B5948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928-B6D6-41AF-B7B8-6A59A6B9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230-1B3D-4878-B876-917F77BF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469-6A7D-4B98-9AB7-23E67B0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425-E07F-4E49-BD48-DA29986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6AD-1A68-4ED9-B98A-2759F84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A8AAA-4C55-41AD-B203-8A0688F2A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