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97324"/>
        <c:axId val="64737842"/>
      </c:barChart>
      <c:catAx>
        <c:axId val="11997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37842"/>
        <c:crosses val="autoZero"/>
        <c:auto val="1"/>
        <c:lblAlgn val="ctr"/>
        <c:lblOffset val="100"/>
        <c:noMultiLvlLbl val="0"/>
      </c:catAx>
      <c:valAx>
        <c:axId val="64737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7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2DD-A1BC-4270-BEF2-1C565DF4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BDA-CF3D-43E1-9CE6-64AA40C3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F2A-ECA5-438C-994F-9FCFFFF5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E98-5301-4DE8-B88C-17397BFE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2FF-B384-494A-BF53-4E8134BF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B95-DC40-4BE1-8827-94428AA4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9A7-4DE3-4A86-8961-11BA2062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7FF-5ECA-46E8-9900-095E16CF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033-7771-4B40-B008-2E34D269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606-D1FC-46F7-A043-25868C12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8C5-F288-4083-B626-96BC2C43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189-5A7E-467D-87FD-201EC7A9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5D180-48AD-4176-9893-9A25C6CEC3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