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207172"/>
        <c:axId val="18977023"/>
      </c:barChart>
      <c:catAx>
        <c:axId val="492071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77023"/>
        <c:crosses val="autoZero"/>
        <c:auto val="1"/>
        <c:lblAlgn val="ctr"/>
        <c:lblOffset val="100"/>
        <c:noMultiLvlLbl val="0"/>
      </c:catAx>
      <c:valAx>
        <c:axId val="189770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071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9F75-6038-4A17-82F0-DCE838BFE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0D8F-2F48-4F33-9517-B722C03C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89F9-28D5-480F-9625-51C93E588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F819-B2BE-4136-8148-55675680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3706-BF7D-48E6-8BBD-EC97CE3E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50AE-89AA-46CB-92FD-AA21B361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FCA5-1CB5-4B97-A9D0-C1738251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9594-F8BB-4517-9741-E4B6B226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2812-556D-4CD3-8AF8-D67777D8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53DB-A2C4-4E44-B906-F08E026A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49E0-FB19-4C6A-BF1F-3ABD24DF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438F-0768-4D32-8FAB-6A5D983C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AD17E-AEA8-4DA4-B848-A54C90E68A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