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902175"/>
        <c:axId val="70997859"/>
      </c:barChart>
      <c:catAx>
        <c:axId val="309021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97859"/>
        <c:crosses val="autoZero"/>
        <c:auto val="1"/>
        <c:lblAlgn val="ctr"/>
        <c:lblOffset val="100"/>
        <c:noMultiLvlLbl val="0"/>
      </c:catAx>
      <c:valAx>
        <c:axId val="709978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021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401A-4230-4F4C-83CD-D3F6C924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C2F8-285F-430B-ACCA-2C6E6918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B644-E744-4D0A-BC58-39B3B9F6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54D0-AB77-4CCA-BDCF-3DF23E7B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817A-4434-4FBA-8E40-8CF4510F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8D0E-70DE-47C3-85E2-51CFFC65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9225-031A-4E18-A6EE-AA371584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A3D0-265A-402A-AC19-22C30E0F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8578-0197-4E12-BBD3-6BB59AEA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D8D7-5A93-4315-8C75-74A30EDC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E371-9E3B-40C4-AF53-3B38E70B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2099-7D2C-40BA-A25B-EF7E7E4F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89E2D-0A53-4FEF-BD0E-AEFC0B93A1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