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55486"/>
        <c:axId val="56638532"/>
      </c:barChart>
      <c:catAx>
        <c:axId val="67755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38532"/>
        <c:crosses val="autoZero"/>
        <c:auto val="1"/>
        <c:lblAlgn val="ctr"/>
        <c:lblOffset val="100"/>
        <c:noMultiLvlLbl val="0"/>
      </c:catAx>
      <c:valAx>
        <c:axId val="56638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55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809-8FA2-49C7-A31E-D72A5088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B5C-1D98-4832-A057-5A80E61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840-34DC-4AF4-AF64-4502F3D0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96B-8B70-41CE-A170-88B61A3D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B63-2BE6-4596-83DD-F69E6293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1B1-4E57-4A06-ADAD-0D0BC8B6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1E0-1E70-489B-A5F8-3C8380FB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83A-4ACE-4DDB-9F42-537186E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368-6FA0-455E-994A-E4B0C006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019-BD18-4E63-8EEF-B239010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F8A-3567-4C38-8144-868358E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4C5-3EA1-4668-B546-24825475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41F83-9F93-427D-ADB0-524E3D592E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