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12570"/>
        <c:axId val="72098796"/>
      </c:barChart>
      <c:catAx>
        <c:axId val="32712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98796"/>
        <c:crosses val="autoZero"/>
        <c:auto val="1"/>
        <c:lblAlgn val="ctr"/>
        <c:lblOffset val="100"/>
        <c:noMultiLvlLbl val="0"/>
      </c:catAx>
      <c:valAx>
        <c:axId val="72098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12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959-C07B-4455-A4A2-8FB602F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6C0-193A-4BAC-9287-E6AD01DF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956-9473-470A-BBCE-3B479F93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1CD-4F2F-4D10-AAA5-2CF8FD03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FB0-181C-4D01-BC9F-E7E43ADD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3E8-2CDA-47ED-B922-A33FE89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94A-CF07-4D84-B7CC-CDD8F8F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297-CA5A-4A27-90C1-A70526F7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5E3-CE43-49DE-8631-2AF6BB2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27D-86A8-4EAF-8B3A-08782C8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23D-6E01-44F1-BB1D-27B113F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8E8-14F7-4670-8B01-7ED2786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62CEE-608B-4DE8-9B96-7FDA4A8A9A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