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52177"/>
        <c:axId val="47366578"/>
      </c:barChart>
      <c:catAx>
        <c:axId val="42652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66578"/>
        <c:crosses val="autoZero"/>
        <c:auto val="1"/>
        <c:lblAlgn val="ctr"/>
        <c:lblOffset val="100"/>
        <c:noMultiLvlLbl val="0"/>
      </c:catAx>
      <c:valAx>
        <c:axId val="47366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52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D39-CBCB-4582-BCB8-8A9ABC40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16C-7177-42EF-8380-3D1D001F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3ED-07CC-40C4-8CA8-E8D6B808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77B-031C-4F66-986F-94B7685F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E1F-CE4E-49FA-9760-99B2F859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EB4-8F0E-4309-A945-E9874099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248-9B36-45BD-8BDD-2A1948E2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232-E83F-4758-8263-23491CE2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A6C-98DA-4AAD-9036-9B0478D3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AD2-FC06-4F85-A03C-92304476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235-3BE4-4E50-9FC0-9415543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6BE-1C4A-4873-982B-9E12278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437B4-E005-4498-BD21-64DDE4070A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