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73235"/>
        <c:axId val="84781170"/>
      </c:barChart>
      <c:catAx>
        <c:axId val="49373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81170"/>
        <c:crosses val="autoZero"/>
        <c:auto val="1"/>
        <c:lblAlgn val="ctr"/>
        <c:lblOffset val="100"/>
        <c:noMultiLvlLbl val="0"/>
      </c:catAx>
      <c:valAx>
        <c:axId val="84781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3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923-4A85-4353-A636-804AF26D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594-791E-4B72-9D04-A69EBCD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2DC-EDB3-4D2A-974B-F4A09C84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21E-689F-4793-B8A9-201D3FE1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00C-89BE-4BC9-931B-171BD290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A89-BF38-4381-8D4E-6E33A059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BB3-6B7E-4298-9624-3CC3567E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2FE-5FBD-4CA1-B406-03C9C493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F8C-C814-4F89-9ECE-A171B10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FE2-1FBA-4C65-97AE-1EB6EE6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B60-0DB8-425E-99A0-B042B03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F08-7DA9-4163-B54A-75C1CEEA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C3A3C-2DCD-4369-8626-928E7C998B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