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04965"/>
        <c:axId val="3300863"/>
      </c:barChart>
      <c:catAx>
        <c:axId val="41904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0863"/>
        <c:crosses val="autoZero"/>
        <c:auto val="1"/>
        <c:lblAlgn val="ctr"/>
        <c:lblOffset val="100"/>
        <c:noMultiLvlLbl val="0"/>
      </c:catAx>
      <c:valAx>
        <c:axId val="3300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04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EBA-F700-476C-9B69-DD886FC9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8AC-FC70-45A4-B76C-F5302047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F7B-DEFF-463B-9BE4-A1FDD8B1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B45-58AE-4449-BD39-942A7CCD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CA8-16C9-4DDB-8397-75A8F0E3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762-0617-4ED0-BA72-56A6AA98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2F4-C860-43DF-A6A9-83CCDC4F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AAA-4018-4256-B143-96254DBB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1AC-49B1-4065-82D7-9580C385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C4C-0E80-4E91-B48A-17DD436C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E36-8FB4-4687-A7A3-214C8D75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801-5F78-4B7C-A9F4-D031A001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28F8D-8D09-499B-AFFA-E330312A52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