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46903"/>
        <c:axId val="10762681"/>
      </c:barChart>
      <c:catAx>
        <c:axId val="57846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62681"/>
        <c:crosses val="autoZero"/>
        <c:auto val="1"/>
        <c:lblAlgn val="ctr"/>
        <c:lblOffset val="100"/>
        <c:noMultiLvlLbl val="0"/>
      </c:catAx>
      <c:valAx>
        <c:axId val="10762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46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B95-9002-4CB2-9E24-7724A79E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A67-78F4-4D67-B453-945CA5E9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B5E-AE6B-46FA-9FA5-81F2BEC6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007-CCB6-4AFB-ABC2-E39A1D02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E61-8BF4-4FF7-BBF6-DC4471C9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276-CCA5-4C7D-835D-98262E66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E12-2773-49AF-AF8A-411C27D0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219-303C-4398-9B8D-F5CFEBA1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1CA-3FBB-45CD-9B1C-D0C0F3C1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7C8-AE86-4BB5-BEFA-224AD11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763-369E-40D2-88F6-FE225049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883-A4ED-4DB3-A980-D432E3BD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60604-3440-4CA7-9302-708C5360B1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