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9800"/>
        <c:axId val="318373"/>
      </c:barChart>
      <c:catAx>
        <c:axId val="88479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373"/>
        <c:crosses val="autoZero"/>
        <c:auto val="1"/>
        <c:lblAlgn val="ctr"/>
        <c:lblOffset val="100"/>
        <c:noMultiLvlLbl val="0"/>
      </c:catAx>
      <c:valAx>
        <c:axId val="318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9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E9A-D7E2-4FE9-B03A-7FFF6FFD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72A-303A-43B4-9274-4B5AB9B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3CC-CAF5-4F2A-913B-E6BFC346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AA6-89F0-4551-BBA2-9BA4041B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9C5-3A80-4EF0-8FBB-E113753B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8FD-F6E9-4603-8C32-FF48934C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578-2D2D-4702-85C8-7132170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35A-D0BB-4BED-A71F-2DE91DE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7A8-A265-47C0-96C5-8A8A94C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97F-AC18-4D5B-85B6-087FB89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185-F149-4ED2-AF20-754AEED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713-E2BF-4FB4-8B6C-9AA1279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5267-1303-42A7-A1BF-0D619A7C5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