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895492"/>
        <c:axId val="93088860"/>
      </c:barChart>
      <c:catAx>
        <c:axId val="958954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088860"/>
        <c:crosses val="autoZero"/>
        <c:auto val="1"/>
        <c:lblAlgn val="ctr"/>
        <c:lblOffset val="100"/>
        <c:noMultiLvlLbl val="0"/>
      </c:catAx>
      <c:valAx>
        <c:axId val="930888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954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32A7-FA1D-42D9-BD29-BE455C60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A1AB-4455-4472-A227-62FBB4D9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6CE0-3A46-4DAB-9AC8-6F77C85FE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9256-1F20-427B-9832-BFA607BA0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6296-1644-41FA-9DA9-165B1EE9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872F-56BD-4571-8483-B747A947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BEBA-A7F3-4607-AA0A-3C48BDE8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2572-23AC-42A9-800B-DF8237FD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477D-4F79-49AB-8D7B-207B7ABA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70BB-64A4-44EE-BEC2-EC12045D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4918-699A-4E47-8100-54E3B7D9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5DF0-3C33-4C37-83EF-F28A913C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D49F0-13CE-49DA-B601-296081FCE2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