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39833"/>
        <c:axId val="25369235"/>
      </c:barChart>
      <c:catAx>
        <c:axId val="43398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69235"/>
        <c:crosses val="autoZero"/>
        <c:auto val="1"/>
        <c:lblAlgn val="ctr"/>
        <c:lblOffset val="100"/>
        <c:noMultiLvlLbl val="0"/>
      </c:catAx>
      <c:valAx>
        <c:axId val="253692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98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3223-6F7F-4590-9F15-672D20B4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8871-A3BE-431F-BC62-05FD0A15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2234-363B-4DB7-90F4-937535DE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BC41-0775-4C92-AD1D-BAD5CA71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A13D-1900-4313-A28F-88006C2C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2743-BB8D-4E01-B89F-D421843F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78DE-673E-49E1-A91E-A1648455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2608-4490-4580-BB70-49DD3971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B248-5BE5-4D75-B76D-21EA9A61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9C34-54AF-4926-8080-3EFEF67F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CE11-FFAB-4139-96F7-B994AAA3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CADB-A8B4-49E9-A800-C7B4DA06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6A837-1BE4-4970-8C7F-8634888702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