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613270"/>
        <c:axId val="81070397"/>
      </c:barChart>
      <c:catAx>
        <c:axId val="896132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70397"/>
        <c:crosses val="autoZero"/>
        <c:auto val="1"/>
        <c:lblAlgn val="ctr"/>
        <c:lblOffset val="100"/>
        <c:noMultiLvlLbl val="0"/>
      </c:catAx>
      <c:valAx>
        <c:axId val="810703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132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6BB5-1549-4A29-9D46-08DB9038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95F7-BC90-4F97-95A8-8FEE1AA0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A457-5105-4539-BBEE-80C026E5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3BF4-6E16-4167-984C-F1DBDFF56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105D-9441-4537-9059-5E5450BD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CE50-ADC3-48EC-BBA2-A21C4A38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0A41-E153-49A3-B698-77BE6692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E1EA-1E4D-4A2E-BA0D-BB69981D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FF7D-1A31-4EAD-B44D-AF74884D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7BB7-614A-4F4B-A703-09B8A73F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F130-DFC3-4087-A562-CAE34CD5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B16B-EC69-484C-9FCC-FFDA7586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2C3EA-A26A-4967-B8B5-78E4C459E8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