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52289"/>
        <c:axId val="15651596"/>
      </c:barChart>
      <c:catAx>
        <c:axId val="50352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51596"/>
        <c:crosses val="autoZero"/>
        <c:auto val="1"/>
        <c:lblAlgn val="ctr"/>
        <c:lblOffset val="100"/>
        <c:noMultiLvlLbl val="0"/>
      </c:catAx>
      <c:valAx>
        <c:axId val="15651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52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2B7-B201-481A-AB42-B963E7BF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DB0-E16D-4499-9606-EDF82BF7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BA5-B46D-4807-960E-AD7DBD21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60E-0F22-4BB0-AF7F-C05ECD88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800-6220-40FC-ABEC-5DBC417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F89-2B46-45D6-81C9-A09B3B3A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383-827E-4277-BD09-A48A28D4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569-45DD-4393-8E6B-8E4E3FDF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7BF-433A-4B88-961E-7909835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E22-4FC6-4EDD-86B4-3F9AD8E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ECD-A5D7-438B-A4ED-E301865B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7CB-616F-4EE6-B7FA-143B7183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175BE-5F7D-4A51-B585-1070A1583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