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48041"/>
        <c:axId val="74438385"/>
      </c:barChart>
      <c:catAx>
        <c:axId val="8024804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4438385"/>
        <c:crosses val="autoZero"/>
        <c:auto val="1"/>
        <c:lblAlgn val="ctr"/>
        <c:lblOffset val="100"/>
        <c:noMultiLvlLbl val="0"/>
      </c:catAx>
      <c:valAx>
        <c:axId val="74438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4804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06E0-1EB6-49CE-A8B0-1362DDC9C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A21C-9D74-4E64-8056-B8689008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21E5-F945-45DD-B29C-D4379E2E6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D965-C296-42B0-8158-D0C12113D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245-6E39-45A6-9DF5-F89AAF90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EDFD6-FB0D-466B-8A49-D4DA50EAD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0040-EE96-4DE6-837F-7807E005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6094-18F0-4F51-8204-9F6F7C052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B4196-ACD3-4B70-AF40-EF615DF3D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075C-0148-4B48-84B7-0DAA52C61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88505-0E75-4EC9-803E-AEC475125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11B50-2BF6-47CE-8547-7FADCB10F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253277-13DE-46A1-9749-F0BE7A6B2F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